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81DDF47-4B6D-44BA-B1DA-735ED1713FC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Use this example YI poster template to promote the program in your community. The textbox is available for you to put your own information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5D5A9BE-9623-46C9-AF91-57BBDBE2427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0C2-D396-402C-A908-C4CE3C82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5A5-50FB-4D38-B10C-F381970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F45-553B-4D6B-8C54-7F33F20D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7EF-3DF1-4553-829F-44CECE9C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6BD-0160-48CA-82FE-F5C3016A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F6C-8121-463C-8DE2-FF226358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73E-AD63-402F-9C44-4EFB5483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D13-02E1-4E7F-B906-EABE18BC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808-0B7D-44F6-8D14-040EA90F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DD5-4E63-4C55-B020-75D8790D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C85-9357-47AE-9983-B7ECAAD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1E8-FB7C-4DA5-9E15-C257AA9A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0D3FCCA-EE86-4A5F-866B-2E46041B09C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rcRect l="0" t="4564" r="0" b="2248"/>
          <a:stretch/>
        </p:blipFill>
        <p:spPr>
          <a:xfrm>
            <a:off x="82440" y="216000"/>
            <a:ext cx="9694800" cy="644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776160" y="4508640"/>
            <a:ext cx="835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Text box area where you can put information such 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Types of software/skills are tau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lesso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Upcoming Cybercamps / worksho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nd any other related information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32:58Z</dcterms:created>
  <dc:creator>Julia Salomone</dc:creator>
  <dc:description/>
  <cp:keywords>YI;Youth Intern at community access sites;poster;promotional materials</cp:keywords>
  <dc:language>en-US</dc:language>
  <cp:lastModifiedBy>Julia</cp:lastModifiedBy>
  <dcterms:modified xsi:type="dcterms:W3CDTF">2013-03-21T00:45:45Z</dcterms:modified>
  <cp:revision>2</cp:revision>
  <dc:subject/>
  <dc:title>PowerPoint Presentation</dc:title>
</cp:coreProperties>
</file>